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52197-E320-44E8-A059-869027160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need to know the names of the families and their properties! The Lanthanides and the Actinides are transition metals as wel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DDE71-BA76-4785-8053-ADD193F40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roups (vertical columns found in the periodic table) are called families.  Note that the transition metals are not on this l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lements in each group (or family) share many physical and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xt lecture we will be discussing trends in the periodic table.  However, one trend in the periodic table is that elements of the same family share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5F7CC-60B2-482F-BC26-E70484695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Alkali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valenc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9612F-850E-4123-ACFC-FFC1D5F8A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alkali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+1 ion, because they give up their one valence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salts with elements from the halogen family (eg. NaCl is table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 spontaneously with oxygen or mois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 lot of heat when reacting.  So much so, they effectively expl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s used in making paper, making soap, in oven clea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and potassium are important in transmitting nerve impulses in y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0EBCD-8427-4EDC-843B-E5E591B69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alkaline earth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y soft and light-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y-gr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31A5B-AF3B-48B2-8AAE-16FAF95BF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alkaline earth met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airplane jet en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s corrosion, so they are good for cars and bi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s fast and brightly in oxy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or your heart, and for muscle contr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fireworks to give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DF0EA-94E6-494B-8BC9-8830BFE10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94D-04E5-4A42-B614-93AB2625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016-D6DB-4F20-B82A-1EC7B98E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98A-3BF4-429C-A921-A8D5ED66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112-4B75-4C2B-91F0-7D88AD02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0A9-699C-48BF-BF8B-B0BE4ED8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31A-47A3-4FEA-ABA5-482C869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41A-8A7F-4776-A2D2-D360785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790-6D33-459C-BA0C-67C9DE4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17F-6283-4715-A428-6CEB91E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EE6-D37E-42FC-8170-FF913C8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8C4-5E95-4FB9-B780-4BF98D8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1DF-610F-4D0D-8BCE-9171982E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12609-42DA-4B63-9295-80FD3313F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: Families of 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kali 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kaline Earth 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68240" y="4343400"/>
            <a:ext cx="7543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824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tha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4456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36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8240" y="48769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20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360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778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16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644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072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9500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3780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378080" y="4038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5492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54928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98756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 rot="16243800">
            <a:off x="-296640" y="225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 rot="16225200">
            <a:off x="-357840" y="2313360"/>
            <a:ext cx="297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 rot="16222200">
            <a:off x="7208640" y="244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 rot="16205400">
            <a:off x="7551360" y="2405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6200000">
            <a:off x="5227200" y="255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16219200">
            <a:off x="5570280" y="2513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16171200">
            <a:off x="5951160" y="251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6200000">
            <a:off x="6484680" y="2589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1752480"/>
            <a:ext cx="8153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(Group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(Group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 (Group 3 or 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 (Group 4 or 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 (Group 5 or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 (Group 6 or 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(Group 7 or 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Group 8 or 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057400" y="3808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ain Group Elem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304920" y="304920"/>
            <a:ext cx="51274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lkali Met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1538280"/>
            <a:ext cx="5979960" cy="349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5235480" y="4076640"/>
            <a:ext cx="3908520" cy="278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161040" y="968400"/>
            <a:ext cx="278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include lithium (Li), sodium (Na), potassium (K), rubidium (Rb), cesium (Cs), and francium (F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14840" y="3460680"/>
            <a:ext cx="4529160" cy="339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36600" y="317520"/>
            <a:ext cx="4795920" cy="319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36600" y="4167360"/>
            <a:ext cx="38401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04920" y="380880"/>
            <a:ext cx="61117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lkaline Earth Met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1692360"/>
            <a:ext cx="5573880" cy="4179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603840" y="533520"/>
            <a:ext cx="254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include beryllium (Be), magnesium (Mg), calcium (Ca), strontium (Sr), barium (Ba), and radium (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5243400" y="3965400"/>
            <a:ext cx="3900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3789360"/>
            <a:ext cx="4484520" cy="306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48452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4484520" y="601560"/>
            <a:ext cx="46594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4:01:04Z</dcterms:created>
  <dc:creator>Staff</dc:creator>
  <dc:description/>
  <dc:language>en-US</dc:language>
  <cp:lastModifiedBy>Staff</cp:lastModifiedBy>
  <dcterms:modified xsi:type="dcterms:W3CDTF">2014-05-15T13:40:40Z</dcterms:modified>
  <cp:revision>8</cp:revision>
  <dc:subject/>
  <dc:title>Lecture: Families of the Periodic Table</dc:title>
</cp:coreProperties>
</file>